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E9D5-E689-4DB2-A49B-095DB23E3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EB01-2E3F-49BB-A48D-7FB455E90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CA95-4D37-4AB3-A59A-A2FDD2EE6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76F9-95CF-4325-B14E-8A67239B1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F139-6013-4BF9-B9C7-F3F9779B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EF5E-10AD-4B97-A88B-9A74F94BC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2B11-C5DC-43E2-81ED-70CEDB15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92B-87DF-47E6-BF65-AC1DE542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A16-DBA6-44CB-93A3-97CD6367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367-57C3-4079-9BC0-799F7413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28E-9094-4C7D-9222-5C5C68AB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AED-AFDC-446D-BE60-E6F004AC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203E-522F-41FB-A844-9AC9880C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C2F9-EA82-403B-88AB-C553EC6E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346F-C6C6-4D98-8A0C-659D9F7E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FD8E-5D65-4413-BED1-9F181879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F0FE-5056-4B70-85D5-F8CBECD7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9D21-671A-4670-BB78-C5C7ED58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DD0-7C6A-4CE3-94E6-E05CADAA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BF2C-25CE-489B-A0E6-AF3FB369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8E09-F818-47E7-9D9B-B85CDE20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371-1906-4B41-83FE-DD4250CC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57BD-E36F-4019-9DBC-0C4EF745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BE99-B518-4D97-BC29-C1A470AE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A75-ACE4-44D3-BA74-D2518E79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320-6ED3-45FF-BEDB-3BD4829B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1EF-24C0-4D98-BFA0-745E0FBB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AE3-1917-4648-A3D7-CA188D0A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658-AF7C-4FC7-B700-95CD5CF4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8D9-298F-4331-B203-F1A56A0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488-2A0B-4850-990B-707F7818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B736-1610-4ECD-BEA4-2F48594BD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8ABA-917A-4625-AC26-F2E5EB50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Rise of Isla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fe and Teachings of Muhamm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70000"/>
                </a:solidFill>
                <a:latin typeface="Futura"/>
              </a:rPr>
              <a:t>Beliefs &amp; Practices cont</a:t>
            </a:r>
            <a:r>
              <a:rPr b="0" lang="en-US" sz="3600" spc="-1" strike="noStrike">
                <a:solidFill>
                  <a:srgbClr val="c7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do not separate their __________________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customs, morals, and laws for Islamic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bidden to eat ____ or to drink _____________ bever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 afternoons set aside for communal worship and prayer; if able, Muslims gather at a Mosque to 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Muslim expected to worship God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us clas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l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religious teachers study the words and deeds of 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f Allah revealed to _________ through _______ in the form of the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rs of Muhammad listened to prayers and teachings, memorized and recited the Rev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his death, _________ recorded in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0000"/>
                </a:solidFill>
                <a:latin typeface="Arial"/>
              </a:rPr>
              <a:t>The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______ (_____________________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_______ is used in 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ver Muslims carried the Qur’an, Arabic became the 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rabic language spreads widely as Muslim control exp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hammad’s mission was to receive the Qur’an and to demonstrate how to li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____________________, best model for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 and ______ assembled to create body of law known 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f law that regulates 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separate ________ matters from criminal/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 applies to all following teachings of the Prophet, thus creates sense of unity for all Musl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066680" y="304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0000"/>
                </a:solidFill>
                <a:latin typeface="Impact"/>
              </a:rPr>
              <a:t>MUHAMMAD S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Muhammad in Mecca"/>
          <p:cNvPicPr/>
          <p:nvPr/>
        </p:nvPicPr>
        <p:blipFill>
          <a:blip r:embed="rId1"/>
          <a:stretch/>
        </p:blipFill>
        <p:spPr>
          <a:xfrm>
            <a:off x="152280" y="1371600"/>
            <a:ext cx="3586320" cy="50734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2286000" y="838080"/>
            <a:ext cx="6553080" cy="2514600"/>
          </a:xfrm>
          <a:prstGeom prst="wedgeEllipseCallout">
            <a:avLst>
              <a:gd name="adj1" fmla="val -43750"/>
              <a:gd name="adj2" fmla="val 69379"/>
            </a:avLst>
          </a:prstGeom>
          <a:solidFill>
            <a:srgbClr val="5554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GRIEF YODER!  ST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GIVE THESE GUYS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71800" y="4343400"/>
            <a:ext cx="5791320" cy="2057400"/>
          </a:xfrm>
          <a:prstGeom prst="wedgeRoundRectCallout">
            <a:avLst>
              <a:gd name="adj1" fmla="val -61981"/>
              <a:gd name="adj2" fmla="val -54629"/>
              <a:gd name="adj3" fmla="val 16667"/>
            </a:avLst>
          </a:prstGeom>
          <a:solidFill>
            <a:srgbClr val="5554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THE “A FOR ALLAH” PROJECT WOULD BE A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IDEA!  SHOW THEM THIS VIDEO CLIP FIRS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THEN HAND OUT THE ASSIGNMENT!  CAN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HANDLE THAT YO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005f"/>
                </a:solidFill>
                <a:latin typeface="Futura"/>
              </a:rPr>
              <a:t>Deserts, Towns, and Traveler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bian Penins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almost completely covered by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ded animals, leading them to fertile grounds called an o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ads call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 became important as the Bedouins began living in towns and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arly 600s, trade became an important activity in the Arabian 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eserts, Towns, &amp; Travel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routes through Arabia ran from the extreme south of the peninsula to the __________ and _________ empires to the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ught not only goods, but ______ from the world outside of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early 600s, cities such as Petra and Palmyra had long been prosperous trading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, in western Arabia, became an important stop on the trade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certain holy months, religious pilgrims would arrive with the trade caravans to worship at an ancient shrine in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called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bs associated _________________, believer in one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years, they introduced many gods and spi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one time over 360 idols brought by many t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eserts, Towns, &amp; Travel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 of the ____________,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rabic, was not new to the Arabian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radition had long been followed by one group of people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n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ristians and Jews lived in Arab lands and practiced monotheism (________________________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into this environment of Mecca, around A.D. 750,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b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____________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to the clan of a powerful Meccan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phaned at the age of 6, raised by grandfather and un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little sch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with trade caravan as a very young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me trader and business manager for ________, a wealthy business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married when he was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arriage and business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 of Muhamm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hammad took great interest in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t much time alone in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Muhammad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age of 40, Muhammad’s life changed overnight when he heard a voice while meditating in a cave outside of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Muslim belief, the voice is that of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riel told Muhammad he was a messenger of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asked Gabriel, “What shall I proclai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came to believe that 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believes he is the last of the proph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s 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gods must be aband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agreed with this basic principle of Islam were call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“_________________________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rabic, Islam means “_____________________________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’s first followers were his wife, Khadijah, and several close friends and 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Muhammad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3, Muhammad begins preaching publicly in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cans believed Mecca would lose its position as a _____________ if people accepted Muhammad’s __________________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ollowers beaten or stoned in the str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hostility, Muhammad leaves Mecca in 622 and resettles in the town of _________, over 200 miles north of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igration became known as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migration attracted many devoted fol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thrib later named ______, “__________________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edina, Muhammad displays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made between his people and the Jews and Arabs of Medina; creates a single community with 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amd draws many more converts;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cts as _________ leader in hostility between Medina/Mec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7631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ing to Me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and Meccans battled against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edouin tribes converted to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ca’s power as a city dec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0, Muhammad and 10,000 followers march to outskirts of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ng defeat, Mecca’s leaders surrender the city and the Prophet enters in triu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returns to _________ and decla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destroys the idols in the Ka’aba and makes _______________ from the Ka’aba 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Z0_vnon5owE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aLFYMkQPakE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eccans pledge loyalty to Muhammad &amp; many convert to Islam, thus joining 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dies two years later at age of 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aken great strides in 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70000"/>
                </a:solidFill>
                <a:latin typeface="Futura"/>
              </a:rPr>
              <a:t>Beliefs and Practices of Isla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nly one God,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 Muslim, all believers have to carry out five duties…these are known as the 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To become a Muslim “There is no God but Allah, and Muhammad is the Messenger of Alla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5 times a day facing toward Mecca; the call to prayer http://www.youtube.com/watch?v=DoNPSEWn6a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all Muslims must support the less fortunate by giving alms, or money for the poor by paying a special religiou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During the Islamic holy month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uslims fast by restraining from food or drink from dawn until sunset.  A simple meal is eaten at the end of the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All Muslims perfor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least once in a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r identical garments so that all stand equal befor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0:00:50Z</dcterms:created>
  <dc:creator>System Administrator</dc:creator>
  <dc:description/>
  <dc:language>en-US</dc:language>
  <cp:lastModifiedBy>admin</cp:lastModifiedBy>
  <dcterms:modified xsi:type="dcterms:W3CDTF">2012-03-07T16:02:06Z</dcterms:modified>
  <cp:revision>76</cp:revision>
  <dc:subject/>
  <dc:title>The Rise of Islam</dc:title>
</cp:coreProperties>
</file>